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195-D37D-4224-8021-EB09CB3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EF8-BB6A-484C-AABD-C9D90483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A80-6306-408C-9D7A-C59B4737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924-6CCF-439D-80F4-D9573967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7C3-72C0-49D2-97A6-F3D6916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82B-B2E1-4375-A09D-3DD04D58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EF2-F0B6-475F-9EFC-E82BEDF1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172-4EE2-4BCF-8EA0-8E659D8B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019-96D8-4D48-8D5C-B67FEC9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2AE-7334-4E76-AB92-D5D6994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2FB-16F8-4B7D-871A-78BD8E1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E52-6F2D-4F7E-A2B4-A131709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2EA-E959-4FF8-A5F6-ABF973BF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animationfactory.com/imagedir/backgrounds/miscellaneous/thumbs_up/thumbs_up_lg_nwm_me.gif&amp;imgrefurl=http://www.animationfactory.com/backgrounds/miscellaneous/16a902/&amp;h=200&amp;w=200&amp;sz=18&amp;hl=en&amp;start=4&amp;tbnid=4ZTXWvpN9JA7EM:&amp;tbnh=104&amp;tbnw=104&amp;prev=/images%3Fq%3Dthumbs%2Bup%26ndsp%3D18%26svnum%3D10%26hl%3Den%26lr%3D%26rls%3DGGLG,GGLG:2005-44,GGLG:en%26sa%3DN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homepage.mac.com/wildlifeweb/mammal/sumatran_tiger/sumatran_tiger_male_02tfk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1.cs.columbia.edu/~sedwards/photos/taiwan200508/20050828-2091%20Rhino%20Leofoo%20Village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odule 2: Psychology &amp; Sc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659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Rockwell"/>
              </a:rPr>
              <a:t>Conducting Experiments - 7 Rules to Reduce Error &amp;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639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1: Ask a question in the form of a hypothe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is = edu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895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2: Identify the Independent Variable (IV) &amp; Dependent Variabl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=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= Outcom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64832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3:  Choose subjects who are representative of the population by using random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elec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bject has an equal chance of being selected to particip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19920" y="1787400"/>
            <a:ext cx="2666880" cy="188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148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ucting Experiments - 7 Rules to Reduce Error &amp; Bi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4: Randomly assign subjects to experimental and contro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s th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receive th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3526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5:  Manipulate the IV by administering the treatment to the experiment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uble blind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the experimenter nor the subject knows which group is receiving th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1622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ucting Experiments - 7 Rules to Reduce Error &amp; Bi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5181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 6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 effect of the IV on the 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038480"/>
            <a:ext cx="5181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7:  Analyze results using statis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 procedures are used to determine whether observed differences in the DV are due to the IV or to ch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898720" cy="149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00800" y="4114800"/>
            <a:ext cx="188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ADH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ntion Deficit Hyperactivity Dis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-7% of children are diagnosed with AD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e common in boys (3: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major symptoms are hyperactivity/impulsivity &amp; in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9880"/>
            <a:ext cx="845820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behavioral symptoms rather than medical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isdiagnosis may occur because severity of behavio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ymptoms va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common treatment is stimulant medication (e.g., Rital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6228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lbertus MT"/>
              </a:rPr>
              <a:t>THAT’S 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3733560"/>
            <a:ext cx="6019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study tonigh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a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ud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udy pre-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76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elix Titling"/>
              </a:rPr>
              <a:t>Research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for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#1: </a:t>
            </a:r>
            <a:r>
              <a:rPr b="0" lang="en-US" sz="8000" spc="-1" strike="noStrike">
                <a:solidFill>
                  <a:srgbClr val="000000"/>
                </a:solidFill>
                <a:latin typeface="Rockwell"/>
              </a:rPr>
              <a:t>Surve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 to obtain info by asking many individuals a fixed set of particula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, mail, person to person,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276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Obtain information from a large group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ompare answers from different groups (age,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esponses may be influen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hrasing of the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ho asks the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eople may not answer truth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1978200" cy="15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2454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#2: </a:t>
            </a:r>
            <a:r>
              <a:rPr b="0" lang="en-US" sz="7500" spc="-1" strike="noStrike">
                <a:solidFill>
                  <a:srgbClr val="000000"/>
                </a:solidFill>
                <a:latin typeface="Bookman Old Style"/>
              </a:rPr>
              <a:t>CASE STUDI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pth analysis of a single individ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vides rich, descriptiv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as &amp; error related to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ase Studies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in support of a particular viewpoint based on detailed observations of an individual’s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ed person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s &amp; placebo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023920" cy="259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441972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MT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lbertus MT"/>
              </a:rPr>
              <a:t>Total Gym helped make me into the toughest guy around; and it can do the same for you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5790960" y="5791320"/>
            <a:ext cx="533160" cy="30456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16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that resembles medical therapy, but has no medical 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sugar 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the patient’s illness that is attributable to an imagine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sugar pill alleviates patients’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142884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38104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648320"/>
            <a:ext cx="2971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measure of the strength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reas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 from 0 to +/- 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(positive or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the direction of asso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343400" cy="215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5909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5840" y="274680"/>
            <a:ext cx="4800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#3: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Experiment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rules and guidelines that minimize the possibility of error and bias in order to identify cause-and-effect relationships using the Scientif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dentify cause-and-effec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s error and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2295360" cy="283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1685880" cy="18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2552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572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1: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2: Ide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3: 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4: As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5: Manipu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6: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7: Analy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92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13:26Z</dcterms:created>
  <dc:creator>tmacleod</dc:creator>
  <dc:description/>
  <dc:language>en-US</dc:language>
  <cp:lastModifiedBy>tmacleod</cp:lastModifiedBy>
  <dcterms:modified xsi:type="dcterms:W3CDTF">2007-02-12T17:20:27Z</dcterms:modified>
  <cp:revision>8</cp:revision>
  <dc:subject/>
  <dc:title>Module 2: Psychology &amp; Science</dc:title>
</cp:coreProperties>
</file>